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6.png" ContentType="image/png"/>
  <Override PartName="/ppt/media/image14.wmf" ContentType="image/x-wmf"/>
  <Override PartName="/ppt/media/image22.png" ContentType="image/png"/>
  <Override PartName="/ppt/media/image21.wmf" ContentType="image/x-wmf"/>
  <Override PartName="/ppt/media/image4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7B9-D56D-44FF-B940-62B7C4DC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ED8-E31A-4731-87D6-0C1E3D07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F92-9BBC-4FF1-AD02-E134F38D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5BA-5784-46C1-BB51-7CDA1865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86B2-AA54-46CA-BC34-68114F58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CBC6-DB09-4DCD-A916-6ACAE6B6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9FE9-DC8D-4ED2-8620-3660A793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7642-7B85-470A-B16B-9051A3CA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A364-B3E8-4553-A56C-6A1FDE12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608E-0EA1-4537-BAE7-386FDB4B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4F72-EF12-4426-8BA1-7829E39F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EFA-E9B9-4FA3-8029-CF668263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7C7D-6CBA-4E39-8AB3-6E214FDD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EB16-DFB7-4B12-B177-8631F73C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92B9-116B-4635-B8C2-E05B4B3A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18C4-CB68-425D-B6E9-61BB6787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B27B-F969-49B3-BDFE-F40CC467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65F-A7C4-47FA-AA32-8DB65653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27D-921A-4782-8BFE-CA1999CF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081-F130-4912-BF88-44DEEBDE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DCB-6818-4438-9C47-A663458A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1A5-2B4A-4611-9250-3BDC85DE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A50-F86C-4C44-BE3D-5D40C6B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851-4F65-45F7-A808-6A427168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E179-D345-42E3-937D-CC49A7E2E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4CB6-4C0A-4D38-9498-B70EE47B5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14102" t="8010" r="13142" b="0"/>
          <a:stretch/>
        </p:blipFill>
        <p:spPr>
          <a:xfrm>
            <a:off x="2050920" y="0"/>
            <a:ext cx="52452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195640" y="1413000"/>
            <a:ext cx="48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rezentare după materialele din setul “Flopi şi apa” realizată de educ. Mazilu Veronica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Grădiniţa Nr. 2 Apa Asău, com. Asău, jud. Bacă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510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31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629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588000" y="4005360"/>
            <a:ext cx="57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5668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630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00000" y="-3240"/>
            <a:ext cx="748836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365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291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1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26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65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5729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754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554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222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32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40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3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24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05:55Z</dcterms:created>
  <dc:creator>trilu-lilu</dc:creator>
  <dc:description/>
  <dc:language>en-US</dc:language>
  <cp:lastModifiedBy>trilu-lilu</cp:lastModifiedBy>
  <dcterms:modified xsi:type="dcterms:W3CDTF">2010-01-10T15:56:59Z</dcterms:modified>
  <cp:revision>5</cp:revision>
  <dc:subject/>
  <dc:title>Diapozitivul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